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71D5-685F-4383-8E0D-AE402881B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BDB4-CA3D-4187-B4A2-41FC15EF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0055-D30F-40A9-8821-9DB7BDDB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Participant notes and workbook pages 17 –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vision” text bo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– The Supervisors’s Changing Job/Work Environment pages 16 –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 – Leading by Example pages 87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F5B-FE40-4509-B03D-E0444B3C7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C66A-1716-4BFE-90ED-051A0445EB1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27D78-E0FD-4DD1-A2F2-D1CDBA84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0855D-02F4-4D47-9F3B-23871B18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7BF54-AE8D-4C52-BC7C-AC000EBC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32D8D-00E9-4F3E-9129-182A6C0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EAA5C-C42F-4C03-9F20-BA1F7C4D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83D74-3E25-44BE-A422-C9084A13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650C1-296F-49BE-BB6B-38EEC8EF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86E5E-0C4C-43F3-8B86-D1AA467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6B49A-0B58-4FC9-A3E6-BD00D91C9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68252-C270-4FBB-8298-231AAA9D5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BE8D-D081-4D6A-8F61-0FA3544EBF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3BF1E-F724-482B-A79A-111B443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BCC3FE-0C9B-4720-843A-5DA1782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8FC77-AFC0-43EF-B533-0E9EFC4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E596F-D109-46B6-AA8D-9B91491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776384-9B21-4DA4-9364-1248DADE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697F1-25A3-499E-A062-B1AA7DBE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BBB24-DB99-4562-B0E8-386DFD8F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3D71B-065A-4783-9949-BAAD7458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0D694C-34CB-44E9-8AEC-45E529A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17209C-E8FC-4AB9-AAD6-FABC252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DE61-5CD7-4ECB-B517-6A6109007A6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0BDEA-EAF5-4FAF-AFC9-FED67C448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1AA1-45A8-4314-ADDF-CDC489C7EB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0B21A-182B-46FE-8BC9-5AC94F50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CFEA-FD41-4697-A602-EF39824A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07AD-A36C-413D-B96A-E5518256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CF00-8DF1-4BF6-ACCE-C3586A50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875C-EE15-4BA6-9BA2-278340AC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5FE9-23A4-4592-98ED-BD409F0F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71A7-1171-4B97-80F9-1FE5CE9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53B5-9572-401C-8262-6DD1951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4FF-FB22-44DA-912E-7883CFA0A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D56F-C521-47C8-9A57-2022005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E1DD-3F46-43E3-ACD1-B296F1F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70A86-0E87-48BF-8CC6-C3B30E0C3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6FC-96E9-424E-8464-B98FCD9B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FD9-B590-45B1-B968-23C1133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B16-B581-4B92-8A9B-4E05764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EA3-20D0-498C-B962-37CE7160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8D7-EB02-4B60-A172-D8C584CA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089-082C-4C6C-8D96-F6978CDD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2E5C-0F93-4C3A-B179-809EB19B9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C23-3F35-4ABC-B96D-15E82DE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161-2496-44B0-9A42-08AA052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13E-374B-444A-97F1-02EDDF0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255-007C-4F77-A60E-8B26AA2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EEF-5526-4287-94C6-E526923FA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B272E-E90C-4248-85E6-D9A0DCA05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77F0-C4E2-4269-AAE1-66F90D1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22C2-7FCF-4EB7-9EC8-76E2E26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D0C32-76B4-49BF-87D8-FF127B1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FD54-5182-4786-A8D6-85EFE7A6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1CB9-5BC0-4976-896A-E896D9905A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51653-321A-48A6-A9D7-952592B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98659-DE26-4C8E-8231-C65709D5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210F-17C4-467D-8C37-72ADC67D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186CD-6377-4FAA-8E55-FF95625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C616-496E-4D2B-9093-4F2110D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B457-53A2-418F-931D-24399CE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DC0C-B428-4F37-8D09-BE3FFBA34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05DD0-6919-4137-B80B-8202B4191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83A98-6CEE-4153-BCA4-C270FFF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3B3B2-464D-4C0F-8BAB-864E849A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4A88-D98C-43E5-93A2-4436AF261D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E7E84-1E1E-483F-A457-F9996599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1227F-6614-4AC9-9FCD-9D753B0F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95C63-D422-4F8F-8BF4-053AAF99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E18AD-55B3-420E-9710-7C3F4FE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D97CF-9327-4D5D-B055-9B46D6D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E063C-48EA-46B1-BECD-E4E6942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D3DF9-E25B-461B-BCC0-01117FD3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6A377-7D3C-4913-9AE7-5780F9F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E4692-2E01-4050-90AA-AB4DCC8F3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6C47-6861-4134-8867-24A42CC5E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05FD-8F7B-4AC0-AE77-24E9AE0012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B638-EEC7-4B40-8294-6BFF3ACA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9C86-C995-4413-B67D-4B60B36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205A-A924-4CAA-8FE9-7B65E17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6BD0-8023-45CD-ABF4-84CE9930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C9B3-A239-4A49-AA7A-B7076EE2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F122-1319-40F6-9AB6-5ADC9F3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A48E-417D-4605-9DCE-B5F43A8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8121-7C2C-4138-ADC5-BB544AF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A9BF-291B-427A-A205-806C0701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6C1A-B98B-4C43-B98C-A36E879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597A-EDAE-4328-86BB-AFA9986EC5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E50F-24C0-49A2-892A-6CDD3764C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984EE-9C21-401A-8D5A-836C9BB2F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542E9-E1C2-47E7-B6DB-3421C15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34074-527D-45AD-BCC4-97684A4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27402-0AF3-4504-A4DF-25F41742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8349A-56D9-4301-81ED-2A635A62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C993B-BFFD-467D-912D-0FC02810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653C7-10CD-4BA2-BFB1-02B3216E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5A354-FD2B-46AC-889B-1CF168E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C9391-79A6-4E42-A597-4AEAB0A3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ED3D-DC15-4F52-8AEE-5A91F682F5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A84D6-76BB-4F6C-9DA0-92C6A8E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15335-CC4C-42FE-9B65-62313A5A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D3460-A9EC-448B-9210-5B751E7B6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FBDF4E-AA4C-4CCF-95B6-0E358654B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4D64D8-EC86-416B-9D99-81B079A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6A85E-FBF1-4BF2-9AEA-49D7954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65F30-A94C-4817-9A78-F9E38A5D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BCB6E-E99E-4F81-9F32-BD17CC6C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26D02-20B4-4D96-B5F3-BEAE5639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CA9AE-305A-4F79-996C-EB07F72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8524-2121-4378-8BDB-1A67293B53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A80B38-35EA-4E06-B5E4-210657D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F48D5-051B-491C-8177-89DB0A89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FE912B-A4EF-45FC-91F6-F660372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BFF34-0758-48F6-AEF5-1C8A3D3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2EFBB-8603-4653-9BA1-CC7EC292F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D433-11F7-4B22-B2A8-F9FA82E10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4D0B-DFC7-40F9-9C3E-9DF4DBF8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1013-CF0D-41ED-A346-92DA2719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DB97-39E4-414F-BB49-E6B486D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EA94-D12F-4519-A160-AE9F6A9C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9B19-CC02-448B-B289-432B6ED7EE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6086-64A5-4B48-8031-C5A16C82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7960-A067-41BB-B9AA-212A5269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E878-0C20-4C8A-A6D8-CD196EE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D7BD-02BD-4270-86C5-0C88484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1AF8-E3BB-43FF-BA1C-9C7F82D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A1D0-2212-4C53-A962-629CA6C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CFFB-98A4-4192-A943-73BA38941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E0429-34A5-40F4-A6B3-31E8B259A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1A131-9358-49EB-B406-CED3285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814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C2EE5-E844-44A8-9694-BEEBA755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2B5-5E42-402D-B2A6-143BDDA44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8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FC9E-672A-4387-9426-847107A391AF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9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FF51-7EEC-4299-81C6-BBA54AB49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0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27B-A365-4EE1-B757-9CBC54673608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1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329-976C-45BB-9681-23FD6AB27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C91-E25B-44A6-A64C-8D0AD4E7E3F8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592-4BEE-4E76-82A5-94B3681BF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2F1-218F-436F-9896-DAD1853B962B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5E0-B672-4DEC-B438-5889F901E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6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67DE-0EB9-470B-BE18-DE4641D54F4A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7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0A7-6650-4644-84CA-598AA630A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8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BBA-0D2F-4908-A53B-B0C1927537E2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9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E5B-EE1A-4505-987D-41940F84D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6E0-F5EF-49C9-A70A-B35158108065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1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4C3-5582-4D9F-BE52-40035E153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2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AF99-F2F0-41BA-8B81-2D966752B4BB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3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68EA-D543-48B5-BAE7-661FB2457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4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AE9-DF54-464A-8062-4FD34A734A3E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5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092-62B1-4573-8665-B8140786F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36576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005-C13F-4B79-81F4-0B39B3138663}" type="datetime3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30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7"/>
          </p:nvPr>
        </p:nvSpPr>
        <p:spPr>
          <a:xfrm>
            <a:off x="8152920" y="15228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C3D8-0492-441A-8C44-626CA343E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INSIGHTFUL MANAGEMENT </a:t>
            </a:r>
            <a:br>
              <a:rPr sz="4800"/>
            </a:b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through </a:t>
            </a:r>
            <a:br>
              <a:rPr sz="4800"/>
            </a:b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SELF AWARE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89B-5C5B-448D-A56C-D6F469ED9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027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105-CBB3-4752-B2EC-06C37308D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624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What we plan to achieve tod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understanding of the connection between self awareness and development, personal success and professional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ghts and analysis of our individual behavioural profile and how we might be helping or hindering our levels of success and satisf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ication of our strengths and developmental ar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a personal action p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increased understanding and appreciation of our work colleagu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ment of team sy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9DE-E85E-4C7F-99BA-E6B3EC2F5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624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ne holistic definition of “SUCCESS” is….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129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eading your life forward according to those things that are most important to you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3242-D225-4B2D-A036-9A70B8C4E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Object 4"/>
          <p:cNvGraphicFramePr/>
          <p:nvPr/>
        </p:nvGraphicFramePr>
        <p:xfrm>
          <a:off x="2514600" y="1905120"/>
          <a:ext cx="4141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4141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Text Box 5"/>
          <p:cNvSpPr/>
          <p:nvPr/>
        </p:nvSpPr>
        <p:spPr>
          <a:xfrm>
            <a:off x="2666880" y="12193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to sel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Not known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71600" y="32004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to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1295280" y="42670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known to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590920" y="380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ari’s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44A1-EF35-44F6-B43D-FAFA2646F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highly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tructured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very comfortable working within policies, procedures and systems.  They tend to be detail oriented and well organised. A compliment to this person would be to describe them as very effici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highly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ndependent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ikes to be in control and can make decisions that are sometimes difficult for others.  They find systems frustrating and are comfortable “bending the rules” if necessary.  A compliment to an independent person would be to describe them as entrepreneu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257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tructured v’s Independ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7F94-C489-4618-9786-BA837223B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atient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n maintain a calm demeaner in demanding circumstances.  They are likely to have a contingency plan and are able to think clearly and rationally to solve problems. A compliment to this person would be to describe them as “cool, calm and collected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highly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restless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rives under pressure and has little patience for tedious and repetitive work.  They enjoy roles that encompass frequent change and multitasking. A compliment to an independent person would be to describe them as energet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257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atient v’s Restl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9B8C-4060-4D2F-8AEB-C6099F2CA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highly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ociable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s a “people” rather than “task” orientation.  They operate very well on committees and their company is often sought by colleagues.  A compliment to this type of person would be to describe them as warm, friendly and conside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highly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analytical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ask oriented and will usually consider facts before feelings.   They work best alone and are more than capable of setting their own goal and deadlines. A compliment to an independent person would be to describe them as rational and log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257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ciable v’s Analyti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093E-BCC6-484E-81AC-FFAC6474E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ompetitive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usually very conscientious and will not be satisfied with substandard work (their own or others).  They are convincing debaters and enjoy convincing others that they are right.  They need recognition.  A compliment to this person would be to describe them as a “go gette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dividual with a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accommodating 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ll strive for consensus and intensely dislikes confrontation and conflict.  They want to be helpful and desire a harmonic work environment.  A compliment to this profile would be to describe them as a great team p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480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mpetitive v’s Accommod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4"/>
          <p:cNvSpPr/>
          <p:nvPr/>
        </p:nvSpPr>
        <p:spPr>
          <a:xfrm>
            <a:off x="8153280" y="152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FD79-0A2D-46FF-83B5-45415D614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e way you behave towards your supervisor, your staff and your peers will influence not only how they relate to you but also how they will perform in the organi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59:52Z</dcterms:created>
  <dc:creator>Donna Mortlock</dc:creator>
  <dc:description/>
  <cp:keywords/>
  <dc:language>en-US</dc:language>
  <cp:lastModifiedBy>Donna Mortlock</cp:lastModifiedBy>
  <dcterms:modified xsi:type="dcterms:W3CDTF">2018-12-21T13:56:15Z</dcterms:modified>
  <cp:revision>81</cp:revision>
  <dc:subject/>
  <dc:title>Manage effective workplace relations</dc:title>
</cp:coreProperties>
</file>